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57F-7FC2-493E-AAF0-E937BE74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1AC-05CB-4CC0-AD19-41270D33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16F-8F4D-4FD0-8794-9B0C29B6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3FA-FACE-443E-A9B0-0A1E3BEE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A9A5-96DB-445B-A61A-D66E1E1F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0F5C-177C-480F-B66D-B60F448A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DD95-87CF-40A3-A731-17052D26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76E8-7DFC-4594-AD84-7FFA0C00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0266-0CEA-4B4F-9C7D-4382A5E7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114A-7EB2-439C-BF04-23A501BE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5C47-1FDA-43F1-B88F-7820557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EFD-9C69-43EF-A9E6-4CF6F2E4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810C-8124-45FB-803F-54FE657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4860-DA66-4AF7-BFFF-A2F7E52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E312-9143-47BF-8CF8-F45D6BAE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3CA2-562C-4DFA-86C6-BA252AB6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F57B-56A1-4E62-943F-1520C775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5349-D6B6-4013-8F94-7795E9F6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399E-AEC1-4330-96C4-3E66FCF9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B4753-CDCE-4C2F-92AE-1D10BD9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9B0B-F189-4C29-AB2D-ECCFAAB2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7A845-E2CB-47DA-A79E-3045BEC6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F52-83A9-4BF3-8962-8AA79BF9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9E1D-56CA-48DF-BBB4-EF0FD20B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E07C-6D55-4504-B63A-6714112D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B914-ED4E-4504-9314-F97D54D6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0558-6767-47D0-9387-95C286D4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4156-F0B4-409A-8C7B-88C832AE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F8D8-ADF5-4E50-8256-7EBE7FF4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9888-27B8-4460-B070-CEAAB602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A9F1-03D8-434C-9672-6FE4186F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8B55-9465-4688-BDE6-23432C69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D8F5B-F113-4EFB-A1E1-A9434E67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85D-8E3B-483E-8DA7-648B94A8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3D58-023F-46BF-BD1E-3DE6F15B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B09C-2F1F-4A0E-949D-96525D26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19C8-BB26-490E-9805-2F92BBB6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6B32-A8AB-44F1-91A3-3413F1B8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4791F-9CD4-4A26-B286-ED1E0C25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8060-B9BB-49A5-84CE-48972ECC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F201-E1E1-4E10-9C6E-9D647383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292D-3897-46F0-BD50-CD584814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4BD8-A24E-4628-8D69-9B14D6D5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EA82D-77C3-4408-BF5A-E18D0207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B31-7357-40C0-B84E-7836DF25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098D-C64E-43A3-9401-00792FAF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F746-DC28-432F-8ED8-8C520C6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CA2DA-B9DB-451C-8F6B-504EA94B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7B824-FA65-4627-819D-1844F3C6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DCF3-62F2-4258-85A1-C882A69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66B63-5E97-40F0-9AA5-644B08C9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B2BA-66C2-43E5-B573-B5A47CA6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0DD53-D1F4-4FA9-8294-CFED8AD0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D222A-F4C0-49A2-8C02-8ACE6A47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A9592-6BB5-45F0-A687-4475ADA0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B39-DFBE-4509-A8EF-37CA520D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348A-B25B-4890-9D39-F7A34373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F7A-571F-40A5-B529-02081F86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A77-BF55-4A85-A1B9-6C9329B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249-B577-4936-8876-8D839BD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C464-D58D-4DDC-80A9-F05822DF7D5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37C4-9C15-4EF9-B869-C71E3347E63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2833-ED43-4604-8066-06B967CA0EF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1C2A-07D0-498B-A253-08A22D0FDA4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B84E-E081-437D-80E4-2AF3D3DC494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onitnuous Improvemnt (desktop)\Anthem\End of yearan.xl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onitnuous Improvemnt (desktop)\Legend Springs\11-12CIPls.xl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Improvement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No Teacher Left Beh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mprovement is a Proces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he last three year we have been working to move from a piece of paper to a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is on-going with making changes within short cycles during the ye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requires the school to monitor both student results and implementation of improvement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mprovement Proces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s year’s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xt year’s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plan with goals, strategies, measurements, professional development goals based on gaps and root 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alogues related to alignment, leadership structures, progress monitoring, professional development, end of year improv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plan with goals, strategies, measurements, professional development goals based on gaps and root 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CIT Action Step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alogues related to action steps, school wide PDSA, progress monitoring, professional development, end of year improv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Understanding conne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Diagram 13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End of the year monitor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CIP Proces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nts to Pond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 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s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ion Rubr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aring Think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nise’s Team / Trevor’s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a’s Team / Lynda’s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7:44:30Z</dcterms:created>
  <dc:creator>Debra Webb</dc:creator>
  <dc:description/>
  <dc:language>en-US</dc:language>
  <cp:lastModifiedBy>Debra Webb</cp:lastModifiedBy>
  <dcterms:modified xsi:type="dcterms:W3CDTF">2011-05-02T21:11:37Z</dcterms:modified>
  <cp:revision>13</cp:revision>
  <dc:subject/>
  <dc:title>Improvement </dc:title>
</cp:coreProperties>
</file>